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748D-71AB-4483-970C-E0FE1819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B0EB-6C32-49BC-9981-A348E702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73F-09A4-485C-83D5-85891A3B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6ED8-8284-43A4-89D2-6197F8D3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3C2-83C5-4010-871F-D97ED0DB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A18-8933-44FA-9984-37115615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A41-81FD-4598-9014-5D088710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509-9618-4257-A570-00EB5FD1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4C0-2991-4F5F-9CCD-E7497F14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344-E032-407C-AED3-9FAAB135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CFCF-BCED-4740-81D9-83BFAF96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9CC-28D3-4B54-8F2A-982B5F31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0A45-B3C9-49A6-9A0C-0FF2BCD3A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35240" y="1589040"/>
            <a:ext cx="4672080" cy="3679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467208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best president of all the presidents. He was nice to peopl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iss Abraham. Lincoln lived in the White House. We lost a great m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 was a very nice man, as nice to a lot of great men. He was good to girls and boys. I love GEORGE WASHINGTON. HE WAS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6:26:49Z</dcterms:created>
  <dc:creator>Carolyn Spielmann</dc:creator>
  <dc:description/>
  <dc:language>en-US</dc:language>
  <cp:lastModifiedBy>Carolyn Spielmann</cp:lastModifiedBy>
  <dcterms:modified xsi:type="dcterms:W3CDTF">2010-01-11T17:03:07Z</dcterms:modified>
  <cp:revision>2</cp:revision>
  <dc:subject/>
  <dc:title>Comparing Presidents</dc:title>
</cp:coreProperties>
</file>